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2FB87F-0176-495C-9B41-6EE57E6B4A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C04C0D-47E2-4B03-A8FE-D760F57D7B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Calibri"/>
              </a:rPr>
              <a:t>Како и во претходните наставни единици, треба да се следи дневниот ред и очекуваните резултати дадени на почетокот на наставната единиц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02CD06-5DD5-4DCA-BFFF-1360C16CDF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CC4B77-4E13-41E7-9378-528869CB313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9C1E-166F-4A53-9657-E222C3674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48C5-DAFE-4EAF-AC68-9964DED30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C934-D32D-47D7-936D-B02572FC0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D690-0911-4244-ACF7-0D121E673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3F05-24EA-4391-99A7-A86979C51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1E02-0201-48C5-B2AF-9252937A3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A994-225C-47AD-8055-71B59A618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2BFE-1D4F-46EE-8AC7-94381D32A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501B-B749-4698-95C6-1807E3487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C3C2-2E0B-4A98-B00F-585D982FD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B631-5DD0-488F-8C0D-059F71CC7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F9EC-305F-4AA2-8288-2734E5956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E9ED30-4153-473C-9DB2-4AF4EF9E29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clker.com/clipart-10842.html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371600" y="44308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3200" spc="-1" strike="noStrike">
                <a:solidFill>
                  <a:srgbClr val="898989"/>
                </a:solidFill>
                <a:latin typeface="Calibri"/>
              </a:rPr>
              <a:t>Наставна единица 1.3.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3200" spc="-1" strike="noStrike">
                <a:solidFill>
                  <a:srgbClr val="898989"/>
                </a:solidFill>
                <a:latin typeface="Calibri"/>
              </a:rPr>
              <a:t>Дневен прегле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3" descr="COE.png"/>
          <p:cNvPicPr/>
          <p:nvPr/>
        </p:nvPicPr>
        <p:blipFill>
          <a:blip r:embed="rId1"/>
          <a:stretch/>
        </p:blipFill>
        <p:spPr>
          <a:xfrm>
            <a:off x="1517760" y="552600"/>
            <a:ext cx="6108480" cy="1104840"/>
          </a:xfrm>
          <a:prstGeom prst="rect">
            <a:avLst/>
          </a:prstGeom>
          <a:ln w="0">
            <a:noFill/>
          </a:ln>
        </p:spPr>
      </p:pic>
      <p:sp>
        <p:nvSpPr>
          <p:cNvPr id="50" name="Title 1"/>
          <p:cNvSpPr/>
          <p:nvPr/>
        </p:nvSpPr>
        <p:spPr>
          <a:xfrm>
            <a:off x="755640" y="1773360"/>
            <a:ext cx="7772400" cy="24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4300" spc="-1" strike="noStrike">
                <a:solidFill>
                  <a:srgbClr val="000000"/>
                </a:solidFill>
                <a:latin typeface="Calibri"/>
              </a:rPr>
              <a:t>Обука за органите за спроведување на законот како дел од првата екипа на местото на настанот</a:t>
            </a:r>
            <a:br>
              <a:rPr sz="4300"/>
            </a:b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56840" y="1235160"/>
            <a:ext cx="8512200" cy="48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800" spc="-1" strike="noStrike">
                <a:solidFill>
                  <a:srgbClr val="000000"/>
                </a:solidFill>
                <a:latin typeface="Calibri"/>
              </a:rPr>
              <a:t>По предавањето на наставната единица слушателите ќе можат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800" spc="-1" strike="noStrike">
                <a:solidFill>
                  <a:srgbClr val="000000"/>
                </a:solidFill>
                <a:latin typeface="Calibri"/>
              </a:rPr>
              <a:t>Да ги идентификуваат областите опфатени со активностите од претходниот ден кои слушателите ги разбрал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800" spc="-1" strike="noStrike">
                <a:solidFill>
                  <a:srgbClr val="000000"/>
                </a:solidFill>
                <a:latin typeface="Calibri"/>
              </a:rPr>
              <a:t>Да ги идентификуваат областите за кои слушателите треба уште еднаш да го поминат материјалот за да го постигнат потребното ниво на знаењ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mk-MK" sz="4400" spc="-1" strike="noStrike">
                <a:solidFill>
                  <a:srgbClr val="000000"/>
                </a:solidFill>
                <a:latin typeface="Calibri"/>
              </a:rPr>
              <a:t>Очекувани резулта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mk-MK" sz="4400" spc="-1" strike="noStrike">
                <a:solidFill>
                  <a:srgbClr val="000000"/>
                </a:solidFill>
                <a:latin typeface="Calibri"/>
              </a:rPr>
              <a:t>Дневен ре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6840" y="1530000"/>
            <a:ext cx="8513640" cy="39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mk-MK" sz="3200" spc="-1" strike="noStrike">
                <a:solidFill>
                  <a:srgbClr val="000000"/>
                </a:solidFill>
                <a:latin typeface="Calibri"/>
              </a:rPr>
              <a:t>Теми опфатени со предавањата од вториот де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74240" indent="-214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mk-MK" sz="2800" spc="-1" strike="noStrike">
                <a:solidFill>
                  <a:srgbClr val="000000"/>
                </a:solidFill>
                <a:latin typeface="Calibri"/>
              </a:rPr>
              <a:t>Претрес и заплен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04080" indent="-214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mk-MK" sz="2800" spc="-1" strike="noStrike">
                <a:solidFill>
                  <a:srgbClr val="000000"/>
                </a:solidFill>
                <a:latin typeface="Calibri"/>
              </a:rPr>
              <a:t>Кој учествува и што треба да се земе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04080" indent="-214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mk-MK" sz="2800" spc="-1" strike="noStrike">
                <a:solidFill>
                  <a:srgbClr val="000000"/>
                </a:solidFill>
                <a:latin typeface="Calibri"/>
              </a:rPr>
              <a:t>Обезбедување и документирање на местото на настано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74240" indent="-214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mk-MK" sz="2800" spc="-1" strike="noStrike">
                <a:solidFill>
                  <a:srgbClr val="000000"/>
                </a:solidFill>
                <a:latin typeface="Calibri"/>
              </a:rPr>
              <a:t>Претрес и заплен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04080" indent="-214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mk-MK" sz="2800" spc="-1" strike="noStrike">
                <a:solidFill>
                  <a:srgbClr val="000000"/>
                </a:solidFill>
                <a:latin typeface="Calibri"/>
              </a:rPr>
              <a:t>Во ситуација на анализа на уреди од самото место на настано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04080" indent="-214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mk-MK" sz="2800" spc="-1" strike="noStrike">
                <a:solidFill>
                  <a:srgbClr val="000000"/>
                </a:solidFill>
                <a:latin typeface="Calibri"/>
              </a:rPr>
              <a:t>Во ситуација на проток на живи информац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6" descr="Question Mark Clip Ar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56" name="TextBox 3"/>
          <p:cNvSpPr/>
          <p:nvPr/>
        </p:nvSpPr>
        <p:spPr>
          <a:xfrm>
            <a:off x="3074760" y="4500720"/>
            <a:ext cx="306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mk-MK" sz="5400" spc="-1" strike="noStrike">
                <a:solidFill>
                  <a:srgbClr val="000000"/>
                </a:solidFill>
                <a:latin typeface="Calibri"/>
              </a:rPr>
              <a:t>Прашањ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30T11:04:42Z</dcterms:created>
  <dc:creator>Nigel Jones</dc:creator>
  <dc:description/>
  <dc:language>en-US</dc:language>
  <cp:lastModifiedBy>Daniela</cp:lastModifiedBy>
  <dcterms:modified xsi:type="dcterms:W3CDTF">2013-07-25T00:49:13Z</dcterms:modified>
  <cp:revision>17</cp:revision>
  <dc:subject/>
  <dc:title>Introductory Cybercrime Training for Judges and Prosecutors</dc:title>
</cp:coreProperties>
</file>